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0723-54EF-4515-9AC8-8AACBBD0D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415-E6D9-4422-A9E7-90E173C0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4EF1-351E-4BFE-B5E8-AA1A8C88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D53-9128-4AA3-9D74-8F71371D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078-96DC-4375-B1C8-6F523B39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9B46-2ED2-4D70-A062-8B93F82A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F49-40D9-4CA1-B7F8-2CFC9FD7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89C8-C657-44E0-AAEC-2785B171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B05-34E4-4AB7-ABCA-5C6707C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13F-A7DD-4A7E-97E1-2E1EF207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616-53A3-436B-A759-E647EFC8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D54C-7014-4678-A765-EA6BBF2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42AA-8E0F-4002-B988-16C88F91F5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2.jpeg"/><Relationship Id="rId5" Type="http://schemas.openxmlformats.org/officeDocument/2006/relationships/image" Target="../media/image8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roblems_with_dirty_oil_in_Madagascar" TargetMode="External"/><Relationship Id="rId2" Type="http://schemas.openxmlformats.org/officeDocument/2006/relationships/hyperlink" Target="http://eewiki.newint.org/index.php/Slavery_in_Mauritania" TargetMode="External"/><Relationship Id="rId3" Type="http://schemas.openxmlformats.org/officeDocument/2006/relationships/hyperlink" Target="http://eewiki.newint.org/index.php/Indonesians_won%27t_stop_fighting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130120"/>
            <a:ext cx="85186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How much do you know about the worl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Decide a) which country, 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b) which global justice iss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898989"/>
                </a:solidFill>
                <a:latin typeface="Calibri"/>
              </a:rPr>
              <a:t>for each of the pho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15840" y="260280"/>
            <a:ext cx="2976480" cy="187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2"/>
          <a:stretch/>
        </p:blipFill>
        <p:spPr>
          <a:xfrm>
            <a:off x="7020000" y="4033800"/>
            <a:ext cx="1893960" cy="2651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3247920" y="333360"/>
            <a:ext cx="3170520" cy="2014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4"/>
          <a:stretch/>
        </p:blipFill>
        <p:spPr>
          <a:xfrm>
            <a:off x="162000" y="4923000"/>
            <a:ext cx="2732040" cy="1726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"/>
          <p:cNvPicPr/>
          <p:nvPr/>
        </p:nvPicPr>
        <p:blipFill>
          <a:blip r:embed="rId5"/>
          <a:stretch/>
        </p:blipFill>
        <p:spPr>
          <a:xfrm>
            <a:off x="6539040" y="260280"/>
            <a:ext cx="242712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"/>
          <p:cNvPicPr/>
          <p:nvPr/>
        </p:nvPicPr>
        <p:blipFill>
          <a:blip r:embed="rId6"/>
          <a:stretch/>
        </p:blipFill>
        <p:spPr>
          <a:xfrm>
            <a:off x="3780000" y="4925880"/>
            <a:ext cx="263844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35290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untries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413000"/>
            <a:ext cx="4040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dagas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urit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iet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ny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40000" y="115560"/>
            <a:ext cx="48956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Global justice issu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00720" y="1413000"/>
            <a:ext cx="43192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447920" y="2440080"/>
            <a:ext cx="4109760" cy="261144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10" descr=""/>
          <p:cNvPicPr/>
          <p:nvPr/>
        </p:nvPicPr>
        <p:blipFill>
          <a:blip r:embed="rId2"/>
          <a:stretch/>
        </p:blipFill>
        <p:spPr>
          <a:xfrm>
            <a:off x="250920" y="144360"/>
            <a:ext cx="3531960" cy="223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3"/>
          <a:stretch/>
        </p:blipFill>
        <p:spPr>
          <a:xfrm>
            <a:off x="5796000" y="2443320"/>
            <a:ext cx="29541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4"/>
          <a:stretch/>
        </p:blipFill>
        <p:spPr>
          <a:xfrm>
            <a:off x="11160" y="3610080"/>
            <a:ext cx="2222280" cy="311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"/>
          <p:cNvPicPr/>
          <p:nvPr/>
        </p:nvPicPr>
        <p:blipFill>
          <a:blip r:embed="rId5"/>
          <a:stretch/>
        </p:blipFill>
        <p:spPr>
          <a:xfrm>
            <a:off x="5157720" y="4492800"/>
            <a:ext cx="3746520" cy="2234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"/>
          <p:cNvPicPr/>
          <p:nvPr/>
        </p:nvPicPr>
        <p:blipFill>
          <a:blip r:embed="rId6"/>
          <a:stretch/>
        </p:blipFill>
        <p:spPr>
          <a:xfrm>
            <a:off x="5506920" y="144360"/>
            <a:ext cx="32432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50920" y="-100080"/>
            <a:ext cx="237636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000" y="476280"/>
            <a:ext cx="7343640" cy="62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agascar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© Ben Stansall/Alamy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il or fores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Problems_with_dirty_oil_in_Madagasca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uritania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300td.org / Creative Commons Licence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Slavery_in_Mauritani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World Development Movement)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Read more: </a:t>
            </a:r>
            <a:r>
              <a:rPr b="0" lang="en-GB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eewiki.newint.org/index.php/Indonesians_won%27t_stop_figh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Vietnam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Didem Tali)</a:t>
            </a:r>
            <a:r>
              <a:rPr b="0" lang="en-GB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urism/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http://eewiki.newint.org/index.php/%22The_beach_is_for_tourists%22_-_Vietnamese_workers_can%27t_enjoy_the_su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i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300" spc="-1" strike="noStrike">
                <a:solidFill>
                  <a:srgbClr val="000000"/>
                </a:solidFill>
                <a:latin typeface="Calibri"/>
              </a:rPr>
              <a:t>(Babu Babu / Reuters)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Inequ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</a:t>
            </a:r>
            <a:r>
              <a:rPr b="0" lang="en-GB" sz="900" spc="-1" strike="noStrike">
                <a:solidFill>
                  <a:srgbClr val="000000"/>
                </a:solidFill>
                <a:latin typeface="Calibri"/>
              </a:rPr>
              <a:t>Read more:  http://eewiki.newint.org/index.php/The_rich_in_Ind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enya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GB" sz="800" spc="-1" strike="noStrike">
                <a:solidFill>
                  <a:srgbClr val="000000"/>
                </a:solidFill>
                <a:latin typeface="Calibri"/>
              </a:rPr>
              <a:t>Socialstarclub.com under a Creative Commons Licence)  </a:t>
            </a:r>
            <a:r>
              <a:rPr b="0" i="1" lang="en-GB" sz="3600" spc="-1" strike="noStrike">
                <a:solidFill>
                  <a:srgbClr val="000000"/>
                </a:solidFill>
                <a:latin typeface="Calibri"/>
              </a:rPr>
              <a:t>Discrimin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Read more:  http://eewiki.newint.org/index.php/Women_with_disabilities_have_two_big_problems_%E2%80%93_their_disability_and_their_gend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-42840" y="189000"/>
            <a:ext cx="1654200" cy="1050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0" y="1392120"/>
            <a:ext cx="1568520" cy="99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49320" y="5661000"/>
            <a:ext cx="166536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7"/>
          <a:stretch/>
        </p:blipFill>
        <p:spPr>
          <a:xfrm>
            <a:off x="7812000" y="4548240"/>
            <a:ext cx="908280" cy="12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"/>
          <p:cNvPicPr/>
          <p:nvPr/>
        </p:nvPicPr>
        <p:blipFill>
          <a:blip r:embed="rId8"/>
          <a:stretch/>
        </p:blipFill>
        <p:spPr>
          <a:xfrm>
            <a:off x="-144360" y="2492280"/>
            <a:ext cx="1874880" cy="1119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"/>
          <p:cNvPicPr/>
          <p:nvPr/>
        </p:nvPicPr>
        <p:blipFill>
          <a:blip r:embed="rId9"/>
          <a:stretch/>
        </p:blipFill>
        <p:spPr>
          <a:xfrm>
            <a:off x="-144360" y="3859200"/>
            <a:ext cx="18748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5T09:59:48Z</dcterms:created>
  <dc:creator>Linda Ruas</dc:creator>
  <dc:description/>
  <dc:language>en-US</dc:language>
  <cp:lastModifiedBy>Linda Ruas</cp:lastModifiedBy>
  <dcterms:modified xsi:type="dcterms:W3CDTF">2014-05-25T11:52:04Z</dcterms:modified>
  <cp:revision>14</cp:revision>
  <dc:subject/>
  <dc:title>Quiz about the world</dc:title>
</cp:coreProperties>
</file>